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EEE-1DC0-474C-8D11-25D36BB7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CCB-20B1-4E28-ABC6-175CCA89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CA6-4980-47B3-9F16-F9A37092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1F67-3416-46F8-B930-1F9EA5B0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A18A-ADF6-4F82-9EEC-B1EAED6A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D1C-563B-406A-B333-8A79CCA1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3F3E-44B4-4C25-A280-520A5D62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3E6-ECBA-4C85-8147-DF01B4A0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7889-A9EB-47DF-B9A1-EB8C0446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563B-6DA4-452D-B114-DB88C12B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4A07-5DB8-4C6E-8E56-CDF3F01E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D369-126E-4E37-B7F0-005B6B4B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A5D5-B1E5-4E25-9B49-0FFEE23BA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TH                                         PORTOBELLO                               PRESTWICK  RINK                               PRESTWICK                               SHETLAND                                    STIR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NEHAVEN                             STONEHAVEN                   STONEHAVEN  MILLENNIUM                     TEVIOTDALE                                         THISTLE                                    TURRI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0520" y="260280"/>
            <a:ext cx="1225440" cy="117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73240" y="26028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728880" y="40464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168880" y="33336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977240" y="260280"/>
            <a:ext cx="1170000" cy="1216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608880" y="404640"/>
            <a:ext cx="987480" cy="1024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88880" y="1700280"/>
            <a:ext cx="1481040" cy="1427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3728880" y="2133720"/>
            <a:ext cx="1024200" cy="106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097600" y="198900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8121600" y="2060640"/>
            <a:ext cx="1044720" cy="1057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488880" y="3645000"/>
            <a:ext cx="1316160" cy="109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2000160" y="3500280"/>
            <a:ext cx="1206720" cy="1216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3584520" y="364500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6824520" y="364500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8193240" y="3500280"/>
            <a:ext cx="1023840" cy="1194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>
            <a:off x="488880" y="5229360"/>
            <a:ext cx="1243080" cy="1390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WEEDBANK                            WEST  LOTHIAN                              WEST  LOTHIAN                            WEST  LOTHIAN  25TH                      WEST  OF  SCOTLAND         WEST  OF  SCOTLAND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7"/>
          <a:stretch/>
        </p:blipFill>
        <p:spPr>
          <a:xfrm>
            <a:off x="6753240" y="213372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8"/>
          <a:stretch/>
        </p:blipFill>
        <p:spPr>
          <a:xfrm>
            <a:off x="5240160" y="3645000"/>
            <a:ext cx="1038240" cy="103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HITEINCH                             SCOTTISH  INDOOR  B.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2144880" y="2133720"/>
            <a:ext cx="1056960" cy="1057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2073240" y="5373720"/>
            <a:ext cx="1170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20:21:59Z</dcterms:created>
  <dc:creator>JOHN YOUNG</dc:creator>
  <dc:description/>
  <dc:language>en-US</dc:language>
  <cp:lastModifiedBy>JY</cp:lastModifiedBy>
  <dcterms:modified xsi:type="dcterms:W3CDTF">2007-02-05T19:37:21Z</dcterms:modified>
  <cp:revision>11</cp:revision>
  <dc:subject/>
  <dc:title>PowerPoint Presentation</dc:title>
</cp:coreProperties>
</file>